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5.gif" ContentType="image/gif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gif" ContentType="image/gif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94C-FA23-4983-93BE-62D42767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4C7-1828-418E-9BD1-281BEEC1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984-4155-4284-A2F2-52B0DC62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82F-6A65-4A36-814C-8FFA1064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2F00-41A9-4274-B34D-7270B080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F579-260F-4BB4-8F29-104C61D2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644E-423A-4089-875C-FAF30975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9B62-A510-46CE-A89C-40167613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2E6D-6678-4A90-8BB0-0FFD20D5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9429-72F1-4531-AB78-BBE51922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4890-6525-4DAC-978C-1EC6C4C9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7B6-D6EC-4D76-B681-8F553AE8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0A50-2749-4BB6-B42E-774B458A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A6D5-7C3B-4462-8F1B-B9164B86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5568-F8A6-4B3E-81EF-F2E644AD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D5E2-83CC-4335-9FD3-47AEF645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7202-616E-4CC8-8326-9247E76D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2674-2657-4743-83A2-A4F9B4FF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161-64CB-4227-AADE-E04A7E37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D36-22D6-4659-AF54-F35E74B8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862-2770-439A-9EBC-DAB8D7EA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5A5-DF80-465C-8BDC-9DF3C289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05B-4D5F-4237-90AF-C2CFDDD7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5270-0909-4510-9494-1EDF5E5E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0209-5A7F-4B72-8162-00D90493F2F6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B357-BD1C-4D06-9B46-AB928E7DB902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BankGothic Md BT"/>
              </a:rPr>
              <a:t>Estry – związki alkoholi i kwasów karboksylowych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ankGothic Md BT"/>
              </a:rPr>
              <a:t>Opracowała: Justyna Mierzw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32623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BankGothic Md BT"/>
              </a:rPr>
              <a:t>Maślan butylu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749760" y="4925880"/>
          <a:ext cx="506412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9760" y="4925880"/>
                    <a:ext cx="50641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43280" y="476280"/>
            <a:ext cx="3888000" cy="3887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2305080" cy="2306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200"/>
                            </p:stCondLst>
                            <p:childTnLst>
                              <p:par>
                                <p:cTn id="2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d4d4d"/>
                </a:solidFill>
                <a:latin typeface="BankGothic Md BT"/>
              </a:rPr>
              <a:t>Octan amylu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4494240" cy="2819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508720" y="1557360"/>
            <a:ext cx="3165480" cy="4360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648320" y="1676520"/>
            <a:ext cx="4194000" cy="81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BankGothic Md BT"/>
              </a:rPr>
              <a:t>Octan izobuty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43280" y="3573360"/>
          <a:ext cx="4194360" cy="14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3573360"/>
                    <a:ext cx="419436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3511440" cy="532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48320" y="1676520"/>
            <a:ext cx="4194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ankGothic Md BT"/>
              </a:rPr>
              <a:t>mrówczan ety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356000" y="3357720"/>
          <a:ext cx="460872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3357720"/>
                    <a:ext cx="460872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3530520" cy="4824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92360" y="5661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R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BankGothic Md BT"/>
              </a:rPr>
              <a:t>Charakterystyczne reakcje estrów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4470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a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ankGothic Md BT"/>
              </a:rPr>
              <a:t>Reakcja kwasowej hydrolizy estrów</a:t>
            </a:r>
            <a:r>
              <a:rPr b="0" lang="en-US" sz="2000" spc="-1" strike="noStrike">
                <a:solidFill>
                  <a:srgbClr val="4d4d4d"/>
                </a:solidFill>
                <a:latin typeface="BankGothic Md BT"/>
              </a:rPr>
              <a:t> - reakcja odwrotna do reakcji estryfikacj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a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ankGothic Md BT"/>
              </a:rPr>
              <a:t>Reakcja hydrolizy zasadowej pod wpływem jonów OH- - reakcja zmydlan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8064360" cy="1138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4360" y="4941720"/>
            <a:ext cx="8208720" cy="1489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520704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ankGothic Md BT"/>
              </a:rPr>
              <a:t>Zastosowanie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459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d4d4d"/>
                </a:solidFill>
                <a:latin typeface="BankGothic Md BT"/>
              </a:rPr>
              <a:t>rozpowszechnione w przyrodzie (nadają zapach olejkom roślinnym i owocom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d4d4d"/>
                </a:solidFill>
                <a:latin typeface="BankGothic Md BT"/>
              </a:rPr>
              <a:t>estry kwasów karboksylowych o długich łańcuchach to woski (wchodzą w skład wosku pszczelego i stanowią powłokę liści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d4d4d"/>
                </a:solidFill>
                <a:latin typeface="BankGothic Md BT"/>
              </a:rPr>
              <a:t>są stosowane do wyrobu esencji zapachowych, rozpuszczalników i farb (np. rozpuszczalnik nitro to mieszanina octanów propylu, butylu i pentylu)</a:t>
            </a:r>
            <a:br>
              <a:rPr sz="2300"/>
            </a:br>
            <a:br>
              <a:rPr sz="2300"/>
            </a:br>
            <a:r>
              <a:rPr b="0" lang="pl-PL" sz="2300" spc="-1" strike="noStrike">
                <a:solidFill>
                  <a:srgbClr val="4d4d4d"/>
                </a:solidFill>
                <a:latin typeface="BankGothic Md BT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164360" y="692280"/>
            <a:ext cx="1171440" cy="866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400"/>
                            </p:stCondLst>
                            <p:childTnLst>
                              <p:par>
                                <p:cTn id="3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400"/>
                            </p:stCondLst>
                            <p:childTnLst>
                              <p:par>
                                <p:cTn id="4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3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9400"/>
                            </p:stCondLst>
                            <p:childTnLst>
                              <p:par>
                                <p:cTn id="4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3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2400"/>
                            </p:stCondLst>
                            <p:childTnLst>
                              <p:par>
                                <p:cTn id="4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3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BankGothic Md BT"/>
              </a:rPr>
              <a:t>Czy wiecie, że…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406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d4d4d"/>
                </a:solidFill>
                <a:uFillTx/>
                <a:latin typeface="BankGothic Md BT"/>
              </a:rPr>
              <a:t>Kwas acetylosalicylowy</a:t>
            </a:r>
            <a:r>
              <a:rPr b="0" lang="en-US" sz="2800" spc="-1" strike="noStrike">
                <a:solidFill>
                  <a:srgbClr val="4d4d4d"/>
                </a:solidFill>
                <a:latin typeface="BankGothic Md B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ankGothic Md BT"/>
              </a:rPr>
              <a:t>czyli polopiryna / aspiryna, która jest od 1899 r. lekiem przeciwbólowym, przeciwgorączkowym, przeciwzapalnym, przeciwzakrzepowym jest również estr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3933720"/>
            <a:ext cx="8209080" cy="1936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6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1197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BankGothic Md BT"/>
              </a:rPr>
              <a:t>Dziękuję za uwagę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05080" y="2997360"/>
            <a:ext cx="2471760" cy="2288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9800" y="1989000"/>
            <a:ext cx="8352000" cy="4048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Estry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chodne alkoholi i kwasów karboksylowych. Niższe estry kwasów karboksylowych są cieczami o przyjemnym zapachu, wyższe są tłuszczami lub woskami. </a:t>
            </a:r>
            <a:br>
              <a:rPr sz="2400"/>
            </a:b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ykłady estrów: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3725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ankGothic Md BT"/>
              </a:rPr>
              <a:t>Reakcja estryfikacji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73080" y="1176480"/>
          <a:ext cx="755820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1176480"/>
                    <a:ext cx="755820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042920" y="5157720"/>
            <a:ext cx="7561440" cy="13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042920" y="3573360"/>
            <a:ext cx="7561440" cy="1449360"/>
          </a:xfrm>
          <a:prstGeom prst="rect">
            <a:avLst/>
          </a:prstGeom>
          <a:ln w="9360">
            <a:solidFill>
              <a:srgbClr val="ffcccc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405000" y="3146400"/>
            <a:ext cx="15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BankGothic Md BT"/>
              </a:rPr>
              <a:t>Na przykład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5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450"/>
                            </p:stCondLst>
                            <p:childTnLst>
                              <p:par>
                                <p:cTn id="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45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45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Reakcja estryfikacji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jest przykładem reakcji kondensacji.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akcja kondensacji - proces w którym z dwóch cząsteczek reagentów powstaje cząsteczka produktu złożona z fragmentów cząsteczek obu reagentów oraz cząsteczka prostego produktu ubocznego, najczęściej wody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Aby ustalić z którego z substratów pochodzi atom tlenu w cząsteczce wody wykorzystano metodę atomów znaczony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040" y="2923200"/>
            <a:ext cx="6167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8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8064360" cy="1882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Właściwości fizyczne estrów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a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ubstancje ciekł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a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rudno rozpuszczalne w wodz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a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o gęstości mniejszej od gęstości w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a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o przyjemnym zapach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a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estry niższych i średnich kwasów karboksylowych oraz niższych i średnich alkoholi są nazywane olejkami eterycznymi (występują w owocach lub kwiatach i nadają im charakterystyczny zapach).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3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3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3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3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10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lfaktologia</a:t>
            </a:r>
            <a:r>
              <a:rPr b="0" lang="pl-PL" sz="2800" spc="-1" strike="noStrike">
                <a:solidFill>
                  <a:srgbClr val="4d4d4d"/>
                </a:solidFill>
                <a:latin typeface="Arial"/>
              </a:rPr>
              <a:t> - nauka zajmująca się zapachami.</a:t>
            </a:r>
            <a:r>
              <a:rPr b="0" lang="pl-PL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1170000"/>
            <a:ext cx="4392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4d4d4d"/>
                </a:solidFill>
                <a:latin typeface="Arial"/>
              </a:rPr>
              <a:t>Olejki eteryczne, olejki zapachowe</a:t>
            </a:r>
            <a:r>
              <a:rPr b="0" lang="pl-PL" sz="2300" spc="-1" strike="noStrike">
                <a:solidFill>
                  <a:srgbClr val="4d4d4d"/>
                </a:solidFill>
                <a:latin typeface="Arial"/>
              </a:rPr>
              <a:t>, bezbarwne, lotne ciecze pochodzenia roślinnego,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d4d4d"/>
                </a:solidFill>
                <a:latin typeface="Arial"/>
              </a:rPr>
              <a:t>Olejki eteryczne posiadają charakterystyczną - przyjemną lub przykrą - woń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d4d4d"/>
                </a:solidFill>
                <a:latin typeface="Arial"/>
              </a:rPr>
              <a:t>Ilościowe porównanie intensywności zapachu olejków eterycznych wykonywane jest za pomocą przyrządu zwanego </a:t>
            </a:r>
            <a:r>
              <a:rPr b="1" lang="pl-PL" sz="2300" spc="-1" strike="noStrike">
                <a:solidFill>
                  <a:srgbClr val="4d4d4d"/>
                </a:solidFill>
                <a:latin typeface="Arial"/>
              </a:rPr>
              <a:t>olfaktometrem</a:t>
            </a:r>
            <a:r>
              <a:rPr b="0" lang="pl-PL" sz="2300" spc="-1" strike="noStrike">
                <a:solidFill>
                  <a:srgbClr val="4d4d4d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4d4d4d"/>
                </a:solidFill>
                <a:latin typeface="Arial"/>
              </a:rPr>
              <a:t>Wiele olejków eterycznych znanych było już alchemiko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50000" y="3429000"/>
            <a:ext cx="4194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cnie olejki eteryczne znajdują zastosowanie w przemyśle spożywczym i perfumeryjnym. Niektóre olejki eteryczne są podawane jako leki wykrztuśne w postaci naparów, syropów lub inhalacji.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48360" y="907920"/>
            <a:ext cx="3671640" cy="225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4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4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4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4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BankGothic Md BT"/>
              </a:rPr>
              <a:t>Estry odpowiedzialne za zapach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1680" y="1676520"/>
            <a:ext cx="4194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BankGothic Md BT"/>
              </a:rPr>
              <a:t>Mrówczan izobuty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4969080" cy="3287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24360" y="1268280"/>
            <a:ext cx="2951280" cy="290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5364000" y="5157720"/>
          <a:ext cx="3602160" cy="14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5157720"/>
                    <a:ext cx="360216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062600" cy="6166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642920" y="2204640"/>
            <a:ext cx="4194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BankGothic Md BT"/>
              </a:rPr>
              <a:t>Octan izoamy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0b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724000" y="1268280"/>
            <a:ext cx="32036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d4d4d"/>
                </a:solidFill>
                <a:latin typeface="BankGothic Md BT"/>
              </a:rPr>
              <a:t>Maślan mety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4508640"/>
          <a:ext cx="419256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508640"/>
                    <a:ext cx="41925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506920" y="3933720"/>
            <a:ext cx="3133800" cy="2125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5112000" cy="3299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08:51:45Z</dcterms:created>
  <dc:creator>Administrator</dc:creator>
  <dc:description/>
  <dc:language>en-US</dc:language>
  <cp:lastModifiedBy>Administrator</cp:lastModifiedBy>
  <dcterms:modified xsi:type="dcterms:W3CDTF">2003-12-10T11:02:55Z</dcterms:modified>
  <cp:revision>10</cp:revision>
  <dc:subject/>
  <dc:title>Slajd 1</dc:title>
</cp:coreProperties>
</file>